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37210-AD38-46CD-8F47-F2639B73E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47C74-F775-4C5C-87F8-59ADA7EB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B262F-F556-417F-B09F-38CF3E49C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961AD-508F-4FA0-8A68-E0F625D2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DE51-F150-4247-AB24-10BBC94A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83F2-27D3-47EF-BA86-7528128D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AE8A-6BA6-428F-9403-4A46701D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2A18-C6F3-4F21-BF6A-3269E159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C890-967C-4894-9DA5-1499ABBE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F0E2-60E2-485F-A930-9CA43FD7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BB9A-6ECA-4768-9AC4-1BE6D775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DE166-DF04-4C1C-976D-046E3643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6C5D-9A4D-49A6-B889-9B99D874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62A8-EB75-46D0-9631-FF63DEBE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802F-F427-4339-9DAD-B0F7917A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6434-528F-4CCE-95E8-114FACF3F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F45F-134B-413A-88A2-B48E46E3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2384C-91F0-4E10-A8E8-17C88C7D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F9E45-A35E-42F2-B442-E7104A8D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7CABA-ABBA-4CF0-9181-4D0D6972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2B3B1-B97D-4DCF-B058-672DA61D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4532B-3967-4E5D-8C74-62FE3DF3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C6902-B436-429B-AC7F-6F9EC5E7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B2DE4-207B-44F9-BEBF-70CEF7FD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3C9E-9A1F-419C-9BF9-74B64503E4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EF38-0A5D-4640-B16B-E10AE8FE49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tokey-Ciphertext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key 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a small key length is a weakness of a Vigenere cipher one fix that has been used is called an autokey cip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a keyw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keyword to encipher the first segment of plai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ciphertext (or the plaintext segment which was just enciphered) as the key for the next 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8D8AA-C3F4-446D-BABF-AC8CAF7C0F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72520" y="321624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autokeycipherprovidesalong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77560" y="298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77560" y="3521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c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10720" y="298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c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709640" y="3292560"/>
            <a:ext cx="152640" cy="38088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10720" y="3521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Courier New"/>
              </a:rPr>
              <a:t>w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44240" y="298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Courier New"/>
              </a:rPr>
              <a:t>w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166840" y="3368160"/>
            <a:ext cx="228600" cy="304920"/>
          </a:xfrm>
          <a:prstGeom prst="line">
            <a:avLst/>
          </a:prstGeom>
          <a:ln w="9360">
            <a:solidFill>
              <a:srgbClr val="99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96960" y="549576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 will implement this ci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3CC1E-F3A5-4D12-A6A7-FD33B9D653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3T04:10:17Z</dcterms:modified>
  <cp:revision>59</cp:revision>
  <dc:subject/>
  <dc:title>CAP Cryptographic Analysis Program</dc:title>
</cp:coreProperties>
</file>